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4BE85-4780-4E96-A442-793B5002E5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5412-5589-4FD3-8981-905F310576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B522-02FA-4C0F-9B5B-7C176BF35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8428-D187-435A-8DFF-DFE9D91278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2768-1D30-4E59-9E10-1E477D5FA93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03DC-D145-45E4-BF42-0349C259051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D581-D2FE-4FED-AADE-5A9B5F62EB3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395C-B592-49E7-AC46-1E91847E4E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5AFC-AA3E-4C9B-ADBC-2B6764D76D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7BF9-CD22-4632-B3C0-2AACDDA934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0773-54A7-4F8E-B420-41244AC1FD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210C-BC7D-49C6-8A7D-1CA2A31F8FF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EE7A-7E43-40D8-8E8A-3B883DA48BA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777240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Are multi-stakeholder platforms the answer to demand-driven research on sustainable intensification? The case of Babati,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Hillbur, Per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mbria"/>
              </a:rPr>
              <a:t>1,3</a:t>
            </a: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 and McCormack, Caitlin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mbria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30000">
                <a:solidFill>
                  <a:srgbClr val="000000"/>
                </a:solidFill>
                <a:latin typeface="Cambr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30000">
                <a:solidFill>
                  <a:srgbClr val="000000"/>
                </a:solidFill>
                <a:latin typeface="Cambri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Malmö University, Swe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Swedish University of Agricultural Sciences (SLU), Swe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30000">
                <a:solidFill>
                  <a:srgbClr val="000000"/>
                </a:solidFill>
                <a:latin typeface="Cambri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International Institute of Tropical Agriculture (IITA), Arusha, Tanza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6840" y="2514600"/>
            <a:ext cx="8002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per explores the challenge to implement sustainable intensification by a combination of science-driven promotion of agricultural technologies and a demand-driven process in a local organizational contex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what ways do research-for-development (R4D) platforms respond to the need for demand-driven research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are the barriers and opportunities for R4D platforms to support a research program on sustainable agricultural intensific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overall performance of the R4D platform approach in a local context in terms of provision of a demand-driven approach to sustainable intensific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Introduction and obj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a local R4D platform (JUMBA) based on project documentation and 14 semi-structured interviews with key stakeholders in the proces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: three dimensions of platform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ec821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establishment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ec821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functioning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ec821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outcom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ddition to these dimensions, we have added a relational dimension to explore how platform members build networks and relations within and outside the platform itself. The relational dimension is essential to understand the platform’s potential for long-term impa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Research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Establishment – origin and structur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lose link between JUMBA and Africa RISING – sometimes conf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High representa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Functioning – communication and coordin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The role and capacity of the management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ommunication – a major challenge: + and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Lack of facilitation – financial and capacity 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Outcom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coping activity; Objectives and work plan for 15/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d part of Babati District Council annual budget and activity pl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Generally few tangible outcomes on the 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Rel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trengthening local networ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onnecting to District Council - sustain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ain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Future relation JUMBA - Africa RIS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embership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Leadership and coordination; capacity buil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Private sector invol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Ward level platforms to reach far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80600" y="2205000"/>
            <a:ext cx="8147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R4DPs have considerable potential for sustainable intensification – capacity building and conflict resolution – locally developed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Not independent/mature yet – need for facil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Closer to the farmers – ward level essent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Social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armer groups, social capital, gender equ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Conclusion and relevance to SI dimen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Odhong, Jonathan (IITA)</cp:lastModifiedBy>
  <cp:lastPrinted>2011-10-06T11:45:23Z</cp:lastPrinted>
  <dcterms:modified xsi:type="dcterms:W3CDTF">2016-07-03T13:33:22Z</dcterms:modified>
  <cp:revision>87</cp:revision>
  <dc:subject/>
  <dc:title>Slide 1</dc:title>
</cp:coreProperties>
</file>